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2520" y="-144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0287B88-6891-4E45-9C47-F22A938076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7F6A7F9-B3D3-4B0C-9FF7-D4ACDDE4D8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335EE06-CDFF-408A-A506-20336F5A5C1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CADFE49-C8D6-49D3-A1F5-10C8599B89A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583920" y="2836440"/>
            <a:ext cx="5838840" cy="59007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ldImg"/>
          </p:nvPr>
        </p:nvSpPr>
        <p:spPr>
          <a:xfrm>
            <a:off x="1978200" y="608040"/>
            <a:ext cx="2823840" cy="2117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195D9C1-ACC7-4D80-9121-965C280C6B8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F4265FF-083A-439F-98E2-C8AD71C2CF0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59BF40E-9E89-431C-A5BA-4063024A039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5DA2E36-6FEA-4A11-9262-6F9729F06C9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F2C0866-70A0-4E39-9828-DA01B65BCFA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457F504-8169-4F83-9FB0-FD0433009F2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E48D68B-CD1F-4267-AC2B-04226049C70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4CC000B-4DA8-4142-889A-AF096CE2406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78C6A8B-F583-457A-9A6B-C64EB6CC89F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E82F095-054B-422E-8784-659CAC95BAF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4DF56F4-BCF9-42B1-B871-7D1962A96F6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2B9FC85-EE12-4DCA-9E92-B3E53EA380E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1AB0454-B64D-4B43-8C61-A084CFF2D0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D0390A3-DF30-4A11-9397-CFE3F91004E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74B0FAF-1107-4442-B5EB-48C357D7C48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816868B-0A27-4514-9847-77839D44F8D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834114B-3B7A-434E-9E65-9681E0B9541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CDD7ED5-C220-4ED0-A7E9-38B0B31CF7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0376E5A-0C5D-457D-9823-76621F23FF3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E5C3F5D-AC17-480B-9ADE-13AE3A8324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652E710-76DD-4FEF-9EE5-21B9553BD23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DE6F7EC-E67F-4097-9CF0-AEAC366AFAB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635D248-9323-4291-A3DC-6A05D7E97EC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B366CD1-BE69-4163-9A17-BA47AF6C2B2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E55186F-C48A-42D4-A497-6C89B095A8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77D2A3A-53C2-4475-955E-4BC989163DF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1B6A607-3474-4A3A-9DD5-CDD89CC1EA1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F03D8C8-F2A1-4EB9-8BBB-0229A17FBAF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978200" y="608040"/>
            <a:ext cx="2823840" cy="2117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DF45D0D-593C-49C7-88CD-9B56DC31537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D294F6A-5EBF-43BE-8ED0-3AF4CF15A9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2A948CD-632C-4F19-9CB1-9E48694859E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73C30D2-7934-4435-968F-637FB572C0C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81B4CE7-38B2-48BD-9142-AB72E6891A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279EC8-681D-4CCD-B57B-C62BDF4A423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7EF44A8B-1D03-4B5B-ADCA-82F568CC19AA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EE9FC44C-98A0-441C-A75C-9BFFD9D8109A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36800" y="926640"/>
            <a:ext cx="81072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source and Schedule Plann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oject Planning Framewor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41160" y="5705640"/>
            <a:ext cx="7448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7502760" y="5648400"/>
            <a:ext cx="8028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901880" y="1436760"/>
            <a:ext cx="1566720" cy="58716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908000" y="2295360"/>
            <a:ext cx="1568520" cy="72900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nceptual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919160" y="3301920"/>
            <a:ext cx="1557360" cy="4874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1916280" y="4059360"/>
            <a:ext cx="1549080" cy="57456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1911240" y="4902120"/>
            <a:ext cx="1565280" cy="49068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1908000" y="5670720"/>
            <a:ext cx="1568520" cy="58068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velop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3898800" y="5535720"/>
            <a:ext cx="1400400" cy="71568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ize, resource,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5911920" y="5587920"/>
            <a:ext cx="1154160" cy="66348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3876840" y="4786200"/>
            <a:ext cx="1331640" cy="636840"/>
          </a:xfrm>
          <a:prstGeom prst="ellipse">
            <a:avLst/>
          </a:prstGeom>
          <a:noFill/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vailabl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4" name="Oval 14"/>
          <p:cNvSpPr/>
          <p:nvPr/>
        </p:nvSpPr>
        <p:spPr>
          <a:xfrm>
            <a:off x="3884760" y="3097080"/>
            <a:ext cx="1315800" cy="730440"/>
          </a:xfrm>
          <a:prstGeom prst="ellipse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5" name="Line 15"/>
          <p:cNvSpPr/>
          <p:nvPr/>
        </p:nvSpPr>
        <p:spPr>
          <a:xfrm>
            <a:off x="1546200" y="1747800"/>
            <a:ext cx="3301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2735280" y="2108160"/>
            <a:ext cx="0" cy="1602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7" name="Line 17"/>
          <p:cNvSpPr/>
          <p:nvPr/>
        </p:nvSpPr>
        <p:spPr>
          <a:xfrm>
            <a:off x="3498840" y="5900760"/>
            <a:ext cx="3841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8" name="Line 18"/>
          <p:cNvSpPr/>
          <p:nvPr/>
        </p:nvSpPr>
        <p:spPr>
          <a:xfrm>
            <a:off x="5318280" y="5900760"/>
            <a:ext cx="57780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9" name="Line 19"/>
          <p:cNvSpPr/>
          <p:nvPr/>
        </p:nvSpPr>
        <p:spPr>
          <a:xfrm flipV="1">
            <a:off x="6492960" y="3516120"/>
            <a:ext cx="0" cy="2052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0" name="Line 20"/>
          <p:cNvSpPr/>
          <p:nvPr/>
        </p:nvSpPr>
        <p:spPr>
          <a:xfrm flipH="1">
            <a:off x="5239800" y="3502080"/>
            <a:ext cx="125100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1" name="Line 21"/>
          <p:cNvSpPr/>
          <p:nvPr/>
        </p:nvSpPr>
        <p:spPr>
          <a:xfrm flipH="1">
            <a:off x="5239800" y="4349880"/>
            <a:ext cx="125100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2" name="Line 22"/>
          <p:cNvSpPr/>
          <p:nvPr/>
        </p:nvSpPr>
        <p:spPr>
          <a:xfrm flipH="1">
            <a:off x="3501720" y="3481560"/>
            <a:ext cx="3841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3" name="Line 23"/>
          <p:cNvSpPr/>
          <p:nvPr/>
        </p:nvSpPr>
        <p:spPr>
          <a:xfrm flipH="1">
            <a:off x="3502080" y="5097600"/>
            <a:ext cx="36648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4" name="Line 24"/>
          <p:cNvSpPr/>
          <p:nvPr/>
        </p:nvSpPr>
        <p:spPr>
          <a:xfrm>
            <a:off x="2735280" y="3111480"/>
            <a:ext cx="0" cy="16344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5" name="Line 25"/>
          <p:cNvSpPr/>
          <p:nvPr/>
        </p:nvSpPr>
        <p:spPr>
          <a:xfrm>
            <a:off x="2735280" y="3889440"/>
            <a:ext cx="0" cy="14292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6" name="Line 26"/>
          <p:cNvSpPr/>
          <p:nvPr/>
        </p:nvSpPr>
        <p:spPr>
          <a:xfrm>
            <a:off x="2735280" y="4721400"/>
            <a:ext cx="0" cy="1602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7" name="Line 27"/>
          <p:cNvSpPr/>
          <p:nvPr/>
        </p:nvSpPr>
        <p:spPr>
          <a:xfrm>
            <a:off x="2735280" y="5440320"/>
            <a:ext cx="0" cy="2034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8" name="Line 28"/>
          <p:cNvSpPr/>
          <p:nvPr/>
        </p:nvSpPr>
        <p:spPr>
          <a:xfrm flipH="1">
            <a:off x="1474920" y="5921280"/>
            <a:ext cx="4190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9" name="Line 29"/>
          <p:cNvSpPr/>
          <p:nvPr/>
        </p:nvSpPr>
        <p:spPr>
          <a:xfrm>
            <a:off x="5240160" y="5092560"/>
            <a:ext cx="1244880" cy="0"/>
          </a:xfrm>
          <a:prstGeom prst="line">
            <a:avLst/>
          </a:prstGeom>
          <a:ln w="12600">
            <a:solidFill>
              <a:srgbClr val="cccc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0" name="Line 30"/>
          <p:cNvSpPr/>
          <p:nvPr/>
        </p:nvSpPr>
        <p:spPr>
          <a:xfrm>
            <a:off x="7094520" y="5900760"/>
            <a:ext cx="4525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1" name="Line 31"/>
          <p:cNvSpPr/>
          <p:nvPr/>
        </p:nvSpPr>
        <p:spPr>
          <a:xfrm flipH="1">
            <a:off x="3487680" y="4346640"/>
            <a:ext cx="3542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2" name="Oval 32"/>
          <p:cNvSpPr/>
          <p:nvPr/>
        </p:nvSpPr>
        <p:spPr>
          <a:xfrm>
            <a:off x="3849840" y="3956040"/>
            <a:ext cx="1384200" cy="733320"/>
          </a:xfrm>
          <a:prstGeom prst="ellipse">
            <a:avLst/>
          </a:prstGeom>
          <a:noFill/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520" y="752400"/>
            <a:ext cx="3051000" cy="13413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lann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Developmen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ime with PROB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304" name="Group 59"/>
          <p:cNvGrpSpPr/>
          <p:nvPr/>
        </p:nvGrpSpPr>
        <p:grpSpPr>
          <a:xfrm>
            <a:off x="2908440" y="685800"/>
            <a:ext cx="5865840" cy="5804280"/>
            <a:chOff x="2908440" y="685800"/>
            <a:chExt cx="5865840" cy="5804280"/>
          </a:xfrm>
        </p:grpSpPr>
        <p:sp>
          <p:nvSpPr>
            <p:cNvPr id="305" name="Line 3"/>
            <p:cNvSpPr/>
            <p:nvPr/>
          </p:nvSpPr>
          <p:spPr>
            <a:xfrm flipH="1">
              <a:off x="5162760" y="938160"/>
              <a:ext cx="698400" cy="39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6" name="Line 4"/>
            <p:cNvSpPr/>
            <p:nvPr/>
          </p:nvSpPr>
          <p:spPr>
            <a:xfrm>
              <a:off x="5162760" y="1328760"/>
              <a:ext cx="708120" cy="34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5859720" y="938160"/>
              <a:ext cx="730080" cy="38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8" name="Line 6"/>
            <p:cNvSpPr/>
            <p:nvPr/>
          </p:nvSpPr>
          <p:spPr>
            <a:xfrm flipH="1">
              <a:off x="5878440" y="1319400"/>
              <a:ext cx="711000" cy="35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5398560" y="962280"/>
              <a:ext cx="957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o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you have 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historical data?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2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0" name="Line 8"/>
            <p:cNvSpPr/>
            <p:nvPr/>
          </p:nvSpPr>
          <p:spPr>
            <a:xfrm>
              <a:off x="5870880" y="1681200"/>
              <a:ext cx="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1" name="Line 9"/>
            <p:cNvSpPr/>
            <p:nvPr/>
          </p:nvSpPr>
          <p:spPr>
            <a:xfrm flipH="1">
              <a:off x="5106960" y="1871640"/>
              <a:ext cx="763920" cy="39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2" name="Line 10"/>
            <p:cNvSpPr/>
            <p:nvPr/>
          </p:nvSpPr>
          <p:spPr>
            <a:xfrm flipH="1" flipV="1">
              <a:off x="5875200" y="1887120"/>
              <a:ext cx="763560" cy="37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5106960" y="2262240"/>
              <a:ext cx="77328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4" name="Line 12"/>
            <p:cNvSpPr/>
            <p:nvPr/>
          </p:nvSpPr>
          <p:spPr>
            <a:xfrm flipH="1">
              <a:off x="5888160" y="2252880"/>
              <a:ext cx="744480" cy="41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5346000" y="1987560"/>
              <a:ext cx="1084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Are there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ufficient estimated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object data?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(3)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5880240" y="2671920"/>
              <a:ext cx="0" cy="18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7" name="Line 15"/>
            <p:cNvSpPr/>
            <p:nvPr/>
          </p:nvSpPr>
          <p:spPr>
            <a:xfrm flipH="1">
              <a:off x="4707000" y="1330560"/>
              <a:ext cx="44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8" name="Rectangle 16"/>
            <p:cNvSpPr/>
            <p:nvPr/>
          </p:nvSpPr>
          <p:spPr>
            <a:xfrm>
              <a:off x="4778280" y="1086120"/>
              <a:ext cx="34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930640" y="1657440"/>
              <a:ext cx="381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0" name="Line 18"/>
            <p:cNvSpPr/>
            <p:nvPr/>
          </p:nvSpPr>
          <p:spPr>
            <a:xfrm>
              <a:off x="5861160" y="7095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1" name="Rectangle 19"/>
            <p:cNvSpPr/>
            <p:nvPr/>
          </p:nvSpPr>
          <p:spPr>
            <a:xfrm>
              <a:off x="5846400" y="685800"/>
              <a:ext cx="144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 LOC estimate (1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2" name="Line 20"/>
            <p:cNvSpPr/>
            <p:nvPr/>
          </p:nvSpPr>
          <p:spPr>
            <a:xfrm flipH="1">
              <a:off x="5125680" y="2881440"/>
              <a:ext cx="75420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3" name="Line 21"/>
            <p:cNvSpPr/>
            <p:nvPr/>
          </p:nvSpPr>
          <p:spPr>
            <a:xfrm>
              <a:off x="5135760" y="3262320"/>
              <a:ext cx="744480" cy="37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4" name="Line 22"/>
            <p:cNvSpPr/>
            <p:nvPr/>
          </p:nvSpPr>
          <p:spPr>
            <a:xfrm flipV="1">
              <a:off x="5864400" y="3249360"/>
              <a:ext cx="733320" cy="38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5" name="Line 23"/>
            <p:cNvSpPr/>
            <p:nvPr/>
          </p:nvSpPr>
          <p:spPr>
            <a:xfrm flipH="1" flipV="1">
              <a:off x="5883480" y="2878200"/>
              <a:ext cx="71424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6" name="Rectangle 24"/>
            <p:cNvSpPr/>
            <p:nvPr/>
          </p:nvSpPr>
          <p:spPr>
            <a:xfrm>
              <a:off x="5345640" y="3075120"/>
              <a:ext cx="108864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Are there sufficient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data for regression?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       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(4)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7" name="Line 25"/>
            <p:cNvSpPr/>
            <p:nvPr/>
          </p:nvSpPr>
          <p:spPr>
            <a:xfrm>
              <a:off x="5861160" y="3643560"/>
              <a:ext cx="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8" name="Rectangle 26"/>
            <p:cNvSpPr/>
            <p:nvPr/>
          </p:nvSpPr>
          <p:spPr>
            <a:xfrm>
              <a:off x="5043600" y="3789360"/>
              <a:ext cx="1596960" cy="559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o the regression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ion on estimated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new and changed LOC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nd actual hours. (9)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9" name="Rectangle 27"/>
            <p:cNvSpPr/>
            <p:nvPr/>
          </p:nvSpPr>
          <p:spPr>
            <a:xfrm>
              <a:off x="5043600" y="4606920"/>
              <a:ext cx="1596960" cy="532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e th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time required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10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0" name="Rectangle 28"/>
            <p:cNvSpPr/>
            <p:nvPr/>
          </p:nvSpPr>
          <p:spPr>
            <a:xfrm>
              <a:off x="5043600" y="5380200"/>
              <a:ext cx="1596960" cy="539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e th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prediction interval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11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1" name="Rectangle 29"/>
            <p:cNvSpPr/>
            <p:nvPr/>
          </p:nvSpPr>
          <p:spPr>
            <a:xfrm>
              <a:off x="5346720" y="6083280"/>
              <a:ext cx="92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Time estimat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12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2" name="Line 30"/>
            <p:cNvSpPr/>
            <p:nvPr/>
          </p:nvSpPr>
          <p:spPr>
            <a:xfrm>
              <a:off x="5803920" y="4357800"/>
              <a:ext cx="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3" name="Line 31"/>
            <p:cNvSpPr/>
            <p:nvPr/>
          </p:nvSpPr>
          <p:spPr>
            <a:xfrm>
              <a:off x="5803920" y="51483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4" name="Line 32"/>
            <p:cNvSpPr/>
            <p:nvPr/>
          </p:nvSpPr>
          <p:spPr>
            <a:xfrm>
              <a:off x="5803920" y="59295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5" name="Rectangle 33"/>
            <p:cNvSpPr/>
            <p:nvPr/>
          </p:nvSpPr>
          <p:spPr>
            <a:xfrm>
              <a:off x="3214800" y="3789360"/>
              <a:ext cx="1292400" cy="530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e historical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productivity in LOC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per hour. (5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6" name="Rectangle 34"/>
            <p:cNvSpPr/>
            <p:nvPr/>
          </p:nvSpPr>
          <p:spPr>
            <a:xfrm>
              <a:off x="3214800" y="4606920"/>
              <a:ext cx="1292400" cy="532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e th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hours required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6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7" name="Rectangle 35"/>
            <p:cNvSpPr/>
            <p:nvPr/>
          </p:nvSpPr>
          <p:spPr>
            <a:xfrm>
              <a:off x="3214800" y="5389560"/>
              <a:ext cx="1292400" cy="530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Estimate the shortest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nd longest likely times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7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8" name="Rectangle 36"/>
            <p:cNvSpPr/>
            <p:nvPr/>
          </p:nvSpPr>
          <p:spPr>
            <a:xfrm>
              <a:off x="7253280" y="3827520"/>
              <a:ext cx="1521000" cy="568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o the regression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ion on estimated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 LOC and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ctual hours.  (13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9" name="Rectangle 37"/>
            <p:cNvSpPr/>
            <p:nvPr/>
          </p:nvSpPr>
          <p:spPr>
            <a:xfrm>
              <a:off x="7253280" y="4606920"/>
              <a:ext cx="152100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e th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time required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14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0" name="Rectangle 38"/>
            <p:cNvSpPr/>
            <p:nvPr/>
          </p:nvSpPr>
          <p:spPr>
            <a:xfrm>
              <a:off x="7253280" y="5388120"/>
              <a:ext cx="1521000" cy="531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e th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prediction interval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15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1" name="Line 39"/>
            <p:cNvSpPr/>
            <p:nvPr/>
          </p:nvSpPr>
          <p:spPr>
            <a:xfrm>
              <a:off x="3822840" y="4332240"/>
              <a:ext cx="0" cy="25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2" name="Line 40"/>
            <p:cNvSpPr/>
            <p:nvPr/>
          </p:nvSpPr>
          <p:spPr>
            <a:xfrm>
              <a:off x="3822840" y="5148360"/>
              <a:ext cx="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3" name="Line 41"/>
            <p:cNvSpPr/>
            <p:nvPr/>
          </p:nvSpPr>
          <p:spPr>
            <a:xfrm>
              <a:off x="3822840" y="59295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4" name="Line 42"/>
            <p:cNvSpPr/>
            <p:nvPr/>
          </p:nvSpPr>
          <p:spPr>
            <a:xfrm>
              <a:off x="8013960" y="4405320"/>
              <a:ext cx="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5" name="Line 43"/>
            <p:cNvSpPr/>
            <p:nvPr/>
          </p:nvSpPr>
          <p:spPr>
            <a:xfrm>
              <a:off x="8013960" y="51483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6" name="Line 44"/>
            <p:cNvSpPr/>
            <p:nvPr/>
          </p:nvSpPr>
          <p:spPr>
            <a:xfrm>
              <a:off x="8013960" y="59295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7" name="Line 45"/>
            <p:cNvSpPr/>
            <p:nvPr/>
          </p:nvSpPr>
          <p:spPr>
            <a:xfrm flipH="1">
              <a:off x="3830400" y="3254400"/>
              <a:ext cx="1320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8" name="Line 46"/>
            <p:cNvSpPr/>
            <p:nvPr/>
          </p:nvSpPr>
          <p:spPr>
            <a:xfrm>
              <a:off x="6612120" y="2264040"/>
              <a:ext cx="1382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9" name="Line 47"/>
            <p:cNvSpPr/>
            <p:nvPr/>
          </p:nvSpPr>
          <p:spPr>
            <a:xfrm>
              <a:off x="3822840" y="3262320"/>
              <a:ext cx="0" cy="52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0" name="Line 48"/>
            <p:cNvSpPr/>
            <p:nvPr/>
          </p:nvSpPr>
          <p:spPr>
            <a:xfrm>
              <a:off x="7985160" y="2271960"/>
              <a:ext cx="0" cy="15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1" name="Rectangle 49"/>
            <p:cNvSpPr/>
            <p:nvPr/>
          </p:nvSpPr>
          <p:spPr>
            <a:xfrm>
              <a:off x="6921360" y="2019240"/>
              <a:ext cx="381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2" name="Rectangle 50"/>
            <p:cNvSpPr/>
            <p:nvPr/>
          </p:nvSpPr>
          <p:spPr>
            <a:xfrm>
              <a:off x="6016320" y="2648160"/>
              <a:ext cx="34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3" name="Rectangle 51"/>
            <p:cNvSpPr/>
            <p:nvPr/>
          </p:nvSpPr>
          <p:spPr>
            <a:xfrm>
              <a:off x="4568760" y="3009960"/>
              <a:ext cx="34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4" name="Rectangle 52"/>
            <p:cNvSpPr/>
            <p:nvPr/>
          </p:nvSpPr>
          <p:spPr>
            <a:xfrm>
              <a:off x="6016680" y="3543480"/>
              <a:ext cx="381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5" name="Rectangle 53"/>
            <p:cNvSpPr/>
            <p:nvPr/>
          </p:nvSpPr>
          <p:spPr>
            <a:xfrm>
              <a:off x="2908440" y="3407040"/>
              <a:ext cx="735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Estimating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hoice C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6" name="Rectangle 54"/>
            <p:cNvSpPr/>
            <p:nvPr/>
          </p:nvSpPr>
          <p:spPr>
            <a:xfrm>
              <a:off x="4737240" y="3407040"/>
              <a:ext cx="735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Estimating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hoice B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7" name="Rectangle 55"/>
            <p:cNvSpPr/>
            <p:nvPr/>
          </p:nvSpPr>
          <p:spPr>
            <a:xfrm>
              <a:off x="7035840" y="3409920"/>
              <a:ext cx="735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Estimating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hoice A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8" name="Rectangle 56"/>
            <p:cNvSpPr/>
            <p:nvPr/>
          </p:nvSpPr>
          <p:spPr>
            <a:xfrm>
              <a:off x="3861000" y="1063800"/>
              <a:ext cx="7351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Estimating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hoice D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udgment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9" name="Rectangle 57"/>
            <p:cNvSpPr/>
            <p:nvPr/>
          </p:nvSpPr>
          <p:spPr>
            <a:xfrm>
              <a:off x="3365280" y="6093000"/>
              <a:ext cx="907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Time estimat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8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0" name="Rectangle 58"/>
            <p:cNvSpPr/>
            <p:nvPr/>
          </p:nvSpPr>
          <p:spPr>
            <a:xfrm>
              <a:off x="7556400" y="6083280"/>
              <a:ext cx="907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Time estimat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16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Resource Planning Proce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13960" y="1450800"/>
            <a:ext cx="77533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a siz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the availabl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regression when you have three or more sets of data that correl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ata for estimated LOC to actual hours, when availa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prediction interv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bining Resource Estimat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mbine multiple estimates from the same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bine the parts; i.e., if three LOC estimates were made, combine their object LOC as input to one resourc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he same for the prediction interv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07840" y="687240"/>
            <a:ext cx="80643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of Combining Resource Estimat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6560" y="18064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three 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= 45 hours, + or - 1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= 18 hours, + or - 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= 85 hours, + or - 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bined estimate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= 45 + 18 + 85 = 14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nce = 100 + 25 + 625 = 75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= square root of variance = 27.4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= 121 to 175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Multiple Proxie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ze/hour data for several prox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each as befo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bine the total estimates and prediction intervals as just describ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ultiple regression i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is a correlation between development time and each prox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xies do not have separate size/hour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regression is covered lat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hedule Estimating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a schedule, you need three thing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ed direct project hou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alendar of available direct hou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rder in which the tasks will be d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, you need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e hours needed for each ta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read these hours over the calendar of available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vailable Direct Hou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ing schedu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projects are not instantly staff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a committed staffing pla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a calendar spread of available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52 weeks a year and 40 hour weeks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year = 2080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3 weeks vacation and 10 holidays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year = 1880 hours (90%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10% for meetings, 5% for mail, interrupts,              one year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000 to 1400 hours (50 to 65%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ask Ord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13960" y="1450800"/>
            <a:ext cx="76899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ask order must be driven by the development strateg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a conceptual approach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task needs completion criteri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consider task interdependenc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consider cost and cycle time priorit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planned task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ask order will change with new knowled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initial task order provides a basis for plann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duce the Schedu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13960" y="1450800"/>
            <a:ext cx="79059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e hours that each task will t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portion of total hours have such tasks historically take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anything unusual affect this projec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ensure that tasks are not omitted, spread the task time for the entire pro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read the task hours over the calenda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key project checkpoi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tandard forma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ask Planning Templat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task planning template is in table C47 (page 693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fill out this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the tasks in their expected order of comple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e hours that each task is expected to t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he hours in the cumulative hours colum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this point, start to prepare the schedule planning templ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hedule Planning Templat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14320" y="1450800"/>
            <a:ext cx="7626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schedule template is in table C49 (page 695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start filling out this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the calendar dates in the left colum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ays or weeks, depending on project sca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days, list every d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weeks, use a standard day (say, Monday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the planned direct project hours available each wee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he hours in the cumulative hours colum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the task and schedule templates togeth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ing the Pla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ta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the cumulative hours needed to complete that task on the task templ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the week on the schedule template when those hours have first been exceed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e week’s date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lumn for that task on the task templ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ow have the task schedu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hedule Planning Examp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554040" y="1346040"/>
            <a:ext cx="82137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703440" y="1463760"/>
            <a:ext cx="800388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able C47, start with an estimate of the hours per task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                         Hours                        Cum. Hr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hedule Planning Examp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689040" y="1465200"/>
            <a:ext cx="785160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able C49, estimate the direct hours available per day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                           Hours                          Cum. Hr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695160" y="1457280"/>
            <a:ext cx="7826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in the task schedule the day on which the cumulative hours for each task is reached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             Hours              Cum. Hrs.             Da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25704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25704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25704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25704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hedule Planning Example - 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arned Valu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urpose of earned value is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 value for each ta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mit progress tracking against the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ilitate tracking, even with plan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behind earned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provides a common value for each task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value is the percentage of the total project hours that this task is planned to t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value is given for partial task comple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plan changes require new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ablish the Planned Valu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the task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he number of project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percentage that each task is of the total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is percentage as the planned value (PV) for that tas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cumulative PV for each tas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the schedule template, enter the cumulative planned value for the tasks to be completed each wee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90480" y="1463760"/>
            <a:ext cx="755964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r" pos="291960"/>
                <a:tab algn="r" pos="1600200"/>
                <a:tab algn="r" pos="3035160"/>
                <a:tab algn="r" pos="4406760"/>
                <a:tab algn="r" pos="543564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xt, produce the PV, or the percentage of the total job that each task represent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arned Value Examp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600200" y="2260440"/>
          <a:ext cx="6095880" cy="39322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k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u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m. Hrs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V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m. PV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.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.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8902800" y="3568680"/>
          <a:ext cx="20772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690480" y="1465200"/>
            <a:ext cx="755964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e cumulative planned value for each day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               Hours         Cum. Hrs.        Cum. PV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                    3                    3                    5.4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                    5                    8             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                    5                  13                  29.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                    5                  18                  48.6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                    4                  22                  56.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                     6                  28                  70.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                     5                  33                  86.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                    5                  38                100.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arned Value Examp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and schedule planning 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lanning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bining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dul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ned value tra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racking the Pla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3988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each task is completed, it earns the planned valu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e earned value (EV) for that tas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e date of task comple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he EV to date in the cumulative EV colum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chedule template, enter the cumulative EV for each week as it is comp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 earned value versus planned value by wee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714240" y="1465200"/>
            <a:ext cx="755964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the project, enter on the task planning template the day each task is completed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racking the Plan Examp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434960" y="2158920"/>
          <a:ext cx="6096240" cy="3932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k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u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m. Hrs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V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m. PV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.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.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703440" y="1467000"/>
            <a:ext cx="755964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enter on the schedule template the earned value (EV) for each day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       Hours     Cum. Hrs.      Cum. PV       EV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5.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5.4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18.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29.7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18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48.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29.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2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56.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48.6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6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2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70.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3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86.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3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100.0 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Aft>
                <a:spcPts val="249"/>
              </a:spcAft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racking the Plan Examp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ing Project Comple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at the project will continue to earn value at the rate it has in the pa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polate to project completion by linearly extending the EV line until it reaches 100%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the likely project completion date, unl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ate of progress can be acceler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 for the remaining tasks can be reduced below the original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690480" y="1465200"/>
            <a:ext cx="75596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actual EV per day?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         Hours      Cum. Hrs.       Cum. PV     EV      Proj. EV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              3                  3                  5.4          5.4          5.4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              5                  8                18.9        18.9   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              5                13                29.7        18.9   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              5                18                48.6        29.7        29.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              4                22                56.7        48.6        48.6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               6                28                70.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               5                33                86.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              5                38              100.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should you expect to finish?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ing Project Completion Examp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690480" y="1465200"/>
            <a:ext cx="75596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actual EV earned per day of 9.72, enter the EV by day to project completion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         Hours      Cum. Hrs.       Cum. PV     EV      Proj. EV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              3                  3                  5.4          5.4          5.4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              5                  8                18.9        18.9   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              5                13                29.7        18.9   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              5                18                48.6        29.7        29.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              4                22                56.7        48.6        48.6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               6                28                70.2                       58.3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               5                33                86.5                       68.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              5                38              100.0                       77.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                                                                                   87.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                                                                                   97.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                                                                                 100.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ing Project Completion Examp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hanging the Pla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13960" y="1450800"/>
            <a:ext cx="7613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lan is still tracked against the original planned value schedu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adding a task, the value of all the completed and planned tasks is reduc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tasks are deleted, the value of all the completed and planned tasks is increa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major plan changes, you must produce a new pla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e PROBE method to estimate development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method also gives you the likely hourly range within which the project will be comp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an accurate estimate, you can make an accurate schedu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arned value method helps you to track progress and project job comple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16120" y="446040"/>
            <a:ext cx="75736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Need for Resource and Schedule Pla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13960" y="1793880"/>
            <a:ext cx="7410600" cy="41767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s provide a business basis for doing the work.  Th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the pr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the schedul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mit agreement on the work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s establish a management framework.  Th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commit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 groups to coordinate thei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status tra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Accurac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ing is a skill that must be develop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helps to build planning skill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simple plans are subject to err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foreseen ev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expected compl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st plain mistak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est strategy is to plan in detai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the recognized tas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estimates based on similar experie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judgments on the r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 Estimating Error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estimating in parts, the total error is less than the sum of the part erro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rors tend to balance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assumes no common bi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 1000-hour job with estimating accuracy of ± 50%, the estimate range is from 500 to 1500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25 parts, each with 50% error,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would be 1000 hours, as bef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range is from 900 to 1100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bining Individual Erro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mbine individual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bine the estimated valu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he estimate varia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25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estimate averages 40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andard deviation is 50%, or 20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ariance for each is 40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ariances total 10,00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bined standard deviation is the square root of the variance, or 10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e range is 900 to 1100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1684440" y="752400"/>
            <a:ext cx="578304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2973240" y="1868400"/>
            <a:ext cx="1800" cy="303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909880" y="490212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09880" y="439884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2909880" y="389556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2909880" y="339264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2909880" y="287496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2909880" y="237168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2909880" y="186840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2973240" y="4398840"/>
            <a:ext cx="26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Line 13"/>
          <p:cNvSpPr/>
          <p:nvPr/>
        </p:nvSpPr>
        <p:spPr>
          <a:xfrm flipV="1">
            <a:off x="2973240" y="4335480"/>
            <a:ext cx="18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3271680" y="4335480"/>
            <a:ext cx="18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3570120" y="4335480"/>
            <a:ext cx="18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Line 16"/>
          <p:cNvSpPr/>
          <p:nvPr/>
        </p:nvSpPr>
        <p:spPr>
          <a:xfrm flipV="1">
            <a:off x="3868560" y="4335480"/>
            <a:ext cx="18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3" name="Line 17"/>
          <p:cNvSpPr/>
          <p:nvPr/>
        </p:nvSpPr>
        <p:spPr>
          <a:xfrm flipV="1">
            <a:off x="4167360" y="4335480"/>
            <a:ext cx="14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Line 18"/>
          <p:cNvSpPr/>
          <p:nvPr/>
        </p:nvSpPr>
        <p:spPr>
          <a:xfrm flipV="1">
            <a:off x="4449600" y="4335480"/>
            <a:ext cx="18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Line 19"/>
          <p:cNvSpPr/>
          <p:nvPr/>
        </p:nvSpPr>
        <p:spPr>
          <a:xfrm flipV="1">
            <a:off x="4748040" y="4335480"/>
            <a:ext cx="18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Line 20"/>
          <p:cNvSpPr/>
          <p:nvPr/>
        </p:nvSpPr>
        <p:spPr>
          <a:xfrm flipV="1">
            <a:off x="5046840" y="4335480"/>
            <a:ext cx="14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346720" y="4335480"/>
            <a:ext cx="14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Line 22"/>
          <p:cNvSpPr/>
          <p:nvPr/>
        </p:nvSpPr>
        <p:spPr>
          <a:xfrm flipV="1">
            <a:off x="5645160" y="4335480"/>
            <a:ext cx="14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Freeform 23"/>
          <p:cNvSpPr/>
          <p:nvPr/>
        </p:nvSpPr>
        <p:spPr>
          <a:xfrm>
            <a:off x="2973240" y="2246400"/>
            <a:ext cx="2671920" cy="1979640"/>
          </a:xfrm>
          <a:custGeom>
            <a:avLst/>
            <a:gdLst/>
            <a:ahLst/>
            <a:rect l="l" t="t" r="r" b="b"/>
            <a:pathLst>
              <a:path w="170" h="126">
                <a:moveTo>
                  <a:pt x="0" y="126"/>
                </a:moveTo>
                <a:lnTo>
                  <a:pt x="19" y="103"/>
                </a:lnTo>
                <a:lnTo>
                  <a:pt x="38" y="0"/>
                </a:lnTo>
                <a:lnTo>
                  <a:pt x="57" y="79"/>
                </a:lnTo>
                <a:lnTo>
                  <a:pt x="76" y="96"/>
                </a:lnTo>
                <a:lnTo>
                  <a:pt x="94" y="106"/>
                </a:lnTo>
                <a:lnTo>
                  <a:pt x="113" y="116"/>
                </a:lnTo>
                <a:lnTo>
                  <a:pt x="132" y="119"/>
                </a:lnTo>
                <a:lnTo>
                  <a:pt x="151" y="92"/>
                </a:lnTo>
                <a:lnTo>
                  <a:pt x="170" y="38"/>
                </a:lnTo>
              </a:path>
            </a:pathLst>
          </a:custGeom>
          <a:noFill/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0" name="Freeform 24"/>
          <p:cNvSpPr/>
          <p:nvPr/>
        </p:nvSpPr>
        <p:spPr>
          <a:xfrm>
            <a:off x="2973240" y="4116240"/>
            <a:ext cx="2671920" cy="487440"/>
          </a:xfrm>
          <a:custGeom>
            <a:avLst/>
            <a:gdLst/>
            <a:ahLst/>
            <a:rect l="l" t="t" r="r" b="b"/>
            <a:pathLst>
              <a:path w="170" h="31">
                <a:moveTo>
                  <a:pt x="0" y="27"/>
                </a:moveTo>
                <a:lnTo>
                  <a:pt x="19" y="31"/>
                </a:lnTo>
                <a:lnTo>
                  <a:pt x="38" y="0"/>
                </a:lnTo>
                <a:lnTo>
                  <a:pt x="57" y="17"/>
                </a:lnTo>
                <a:lnTo>
                  <a:pt x="76" y="16"/>
                </a:lnTo>
                <a:lnTo>
                  <a:pt x="94" y="13"/>
                </a:lnTo>
                <a:lnTo>
                  <a:pt x="113" y="17"/>
                </a:lnTo>
                <a:lnTo>
                  <a:pt x="132" y="27"/>
                </a:lnTo>
                <a:lnTo>
                  <a:pt x="151" y="15"/>
                </a:lnTo>
                <a:lnTo>
                  <a:pt x="170" y="11"/>
                </a:lnTo>
              </a:path>
            </a:pathLst>
          </a:custGeom>
          <a:noFill/>
          <a:ln w="158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Freeform 25"/>
          <p:cNvSpPr/>
          <p:nvPr/>
        </p:nvSpPr>
        <p:spPr>
          <a:xfrm>
            <a:off x="2973240" y="4460760"/>
            <a:ext cx="2671920" cy="330480"/>
          </a:xfrm>
          <a:custGeom>
            <a:avLst/>
            <a:gdLst/>
            <a:ahLst/>
            <a:rect l="l" t="t" r="r" b="b"/>
            <a:pathLst>
              <a:path w="170" h="21">
                <a:moveTo>
                  <a:pt x="0" y="13"/>
                </a:moveTo>
                <a:lnTo>
                  <a:pt x="19" y="21"/>
                </a:lnTo>
                <a:lnTo>
                  <a:pt x="38" y="0"/>
                </a:lnTo>
                <a:lnTo>
                  <a:pt x="57" y="14"/>
                </a:lnTo>
                <a:lnTo>
                  <a:pt x="76" y="10"/>
                </a:lnTo>
                <a:lnTo>
                  <a:pt x="94" y="12"/>
                </a:lnTo>
                <a:lnTo>
                  <a:pt x="113" y="3"/>
                </a:lnTo>
                <a:lnTo>
                  <a:pt x="132" y="18"/>
                </a:lnTo>
                <a:lnTo>
                  <a:pt x="151" y="13"/>
                </a:lnTo>
                <a:lnTo>
                  <a:pt x="170" y="2"/>
                </a:lnTo>
              </a:path>
            </a:pathLst>
          </a:custGeom>
          <a:noFill/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2515680" y="1019160"/>
            <a:ext cx="41857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Estimating Error Range 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2422080" y="4775040"/>
            <a:ext cx="3740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Rectangle 28"/>
          <p:cNvSpPr/>
          <p:nvPr/>
        </p:nvSpPr>
        <p:spPr>
          <a:xfrm>
            <a:off x="2704320" y="427356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Rectangle 29"/>
          <p:cNvSpPr/>
          <p:nvPr/>
        </p:nvSpPr>
        <p:spPr>
          <a:xfrm>
            <a:off x="2485080" y="37702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6" name="Rectangle 30"/>
          <p:cNvSpPr/>
          <p:nvPr/>
        </p:nvSpPr>
        <p:spPr>
          <a:xfrm>
            <a:off x="2485080" y="32670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2485080" y="27478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2485080" y="22464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2485080" y="174312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0" name="Rectangle 34"/>
          <p:cNvSpPr/>
          <p:nvPr/>
        </p:nvSpPr>
        <p:spPr>
          <a:xfrm>
            <a:off x="29250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1" name="Rectangle 35"/>
          <p:cNvSpPr/>
          <p:nvPr/>
        </p:nvSpPr>
        <p:spPr>
          <a:xfrm>
            <a:off x="32234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Rectangle 36"/>
          <p:cNvSpPr/>
          <p:nvPr/>
        </p:nvSpPr>
        <p:spPr>
          <a:xfrm>
            <a:off x="35218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Rectangle 37"/>
          <p:cNvSpPr/>
          <p:nvPr/>
        </p:nvSpPr>
        <p:spPr>
          <a:xfrm>
            <a:off x="382032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4" name="Rectangle 38"/>
          <p:cNvSpPr/>
          <p:nvPr/>
        </p:nvSpPr>
        <p:spPr>
          <a:xfrm>
            <a:off x="41187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Rectangle 39"/>
          <p:cNvSpPr/>
          <p:nvPr/>
        </p:nvSpPr>
        <p:spPr>
          <a:xfrm>
            <a:off x="44031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47016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50000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Rectangle 42"/>
          <p:cNvSpPr/>
          <p:nvPr/>
        </p:nvSpPr>
        <p:spPr>
          <a:xfrm>
            <a:off x="52984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9" name="Rectangle 43"/>
          <p:cNvSpPr/>
          <p:nvPr/>
        </p:nvSpPr>
        <p:spPr>
          <a:xfrm>
            <a:off x="5596920" y="5075280"/>
            <a:ext cx="204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Rectangle 45"/>
          <p:cNvSpPr/>
          <p:nvPr/>
        </p:nvSpPr>
        <p:spPr>
          <a:xfrm>
            <a:off x="3286440" y="5467320"/>
            <a:ext cx="20779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Rectangle 46"/>
          <p:cNvSpPr/>
          <p:nvPr/>
        </p:nvSpPr>
        <p:spPr>
          <a:xfrm rot="16200000">
            <a:off x="1668960" y="3252600"/>
            <a:ext cx="9180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Erro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2" name="Rectangle 47"/>
          <p:cNvSpPr/>
          <p:nvPr/>
        </p:nvSpPr>
        <p:spPr>
          <a:xfrm>
            <a:off x="5959440" y="2889360"/>
            <a:ext cx="1351080" cy="1006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Line 48"/>
          <p:cNvSpPr/>
          <p:nvPr/>
        </p:nvSpPr>
        <p:spPr>
          <a:xfrm>
            <a:off x="6037200" y="3078000"/>
            <a:ext cx="628560" cy="1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Rectangle 49"/>
          <p:cNvSpPr/>
          <p:nvPr/>
        </p:nvSpPr>
        <p:spPr>
          <a:xfrm>
            <a:off x="6713640" y="2936880"/>
            <a:ext cx="372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5" name="Line 50"/>
          <p:cNvSpPr/>
          <p:nvPr/>
        </p:nvSpPr>
        <p:spPr>
          <a:xfrm>
            <a:off x="6037200" y="3408480"/>
            <a:ext cx="62856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Rectangle 51"/>
          <p:cNvSpPr/>
          <p:nvPr/>
        </p:nvSpPr>
        <p:spPr>
          <a:xfrm>
            <a:off x="6713640" y="3267000"/>
            <a:ext cx="44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Line 52"/>
          <p:cNvSpPr/>
          <p:nvPr/>
        </p:nvSpPr>
        <p:spPr>
          <a:xfrm>
            <a:off x="6037200" y="3738600"/>
            <a:ext cx="62856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Rectangle 53"/>
          <p:cNvSpPr/>
          <p:nvPr/>
        </p:nvSpPr>
        <p:spPr>
          <a:xfrm>
            <a:off x="6713640" y="3597120"/>
            <a:ext cx="33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Rectangle 54"/>
          <p:cNvSpPr/>
          <p:nvPr/>
        </p:nvSpPr>
        <p:spPr>
          <a:xfrm>
            <a:off x="1684440" y="752400"/>
            <a:ext cx="5767200" cy="534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7"/>
          <p:cNvSpPr/>
          <p:nvPr/>
        </p:nvSpPr>
        <p:spPr>
          <a:xfrm>
            <a:off x="1684440" y="752400"/>
            <a:ext cx="578304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1" name="Line 1028"/>
          <p:cNvSpPr/>
          <p:nvPr/>
        </p:nvSpPr>
        <p:spPr>
          <a:xfrm>
            <a:off x="2973240" y="2246400"/>
            <a:ext cx="1800" cy="2655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Line 1029"/>
          <p:cNvSpPr/>
          <p:nvPr/>
        </p:nvSpPr>
        <p:spPr>
          <a:xfrm>
            <a:off x="2909880" y="490212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Line 1030"/>
          <p:cNvSpPr/>
          <p:nvPr/>
        </p:nvSpPr>
        <p:spPr>
          <a:xfrm>
            <a:off x="2909880" y="446076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Line 1031"/>
          <p:cNvSpPr/>
          <p:nvPr/>
        </p:nvSpPr>
        <p:spPr>
          <a:xfrm>
            <a:off x="2909880" y="402120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Line 1032"/>
          <p:cNvSpPr/>
          <p:nvPr/>
        </p:nvSpPr>
        <p:spPr>
          <a:xfrm>
            <a:off x="2909880" y="358128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Line 1033"/>
          <p:cNvSpPr/>
          <p:nvPr/>
        </p:nvSpPr>
        <p:spPr>
          <a:xfrm>
            <a:off x="2909880" y="312588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Line 1034"/>
          <p:cNvSpPr/>
          <p:nvPr/>
        </p:nvSpPr>
        <p:spPr>
          <a:xfrm>
            <a:off x="2909880" y="268596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Line 1035"/>
          <p:cNvSpPr/>
          <p:nvPr/>
        </p:nvSpPr>
        <p:spPr>
          <a:xfrm>
            <a:off x="2909880" y="224640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Line 1036"/>
          <p:cNvSpPr/>
          <p:nvPr/>
        </p:nvSpPr>
        <p:spPr>
          <a:xfrm>
            <a:off x="2973240" y="4460760"/>
            <a:ext cx="26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Line 1037"/>
          <p:cNvSpPr/>
          <p:nvPr/>
        </p:nvSpPr>
        <p:spPr>
          <a:xfrm flipV="1">
            <a:off x="297324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Line 1038"/>
          <p:cNvSpPr/>
          <p:nvPr/>
        </p:nvSpPr>
        <p:spPr>
          <a:xfrm flipV="1">
            <a:off x="327168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Line 1039"/>
          <p:cNvSpPr/>
          <p:nvPr/>
        </p:nvSpPr>
        <p:spPr>
          <a:xfrm flipV="1">
            <a:off x="357012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Line 1040"/>
          <p:cNvSpPr/>
          <p:nvPr/>
        </p:nvSpPr>
        <p:spPr>
          <a:xfrm flipV="1">
            <a:off x="386856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Line 1041"/>
          <p:cNvSpPr/>
          <p:nvPr/>
        </p:nvSpPr>
        <p:spPr>
          <a:xfrm flipV="1">
            <a:off x="416736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Line 1042"/>
          <p:cNvSpPr/>
          <p:nvPr/>
        </p:nvSpPr>
        <p:spPr>
          <a:xfrm flipV="1">
            <a:off x="444960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Line 1043"/>
          <p:cNvSpPr/>
          <p:nvPr/>
        </p:nvSpPr>
        <p:spPr>
          <a:xfrm flipV="1">
            <a:off x="474804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Line 1044"/>
          <p:cNvSpPr/>
          <p:nvPr/>
        </p:nvSpPr>
        <p:spPr>
          <a:xfrm flipV="1">
            <a:off x="504684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Line 1045"/>
          <p:cNvSpPr/>
          <p:nvPr/>
        </p:nvSpPr>
        <p:spPr>
          <a:xfrm flipV="1">
            <a:off x="534672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Line 1046"/>
          <p:cNvSpPr/>
          <p:nvPr/>
        </p:nvSpPr>
        <p:spPr>
          <a:xfrm flipV="1">
            <a:off x="564516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Freeform 1047"/>
          <p:cNvSpPr/>
          <p:nvPr/>
        </p:nvSpPr>
        <p:spPr>
          <a:xfrm>
            <a:off x="2973240" y="2260440"/>
            <a:ext cx="2671920" cy="2154240"/>
          </a:xfrm>
          <a:custGeom>
            <a:avLst/>
            <a:gdLst/>
            <a:ahLst/>
            <a:rect l="l" t="t" r="r" b="b"/>
            <a:pathLst>
              <a:path w="170" h="137">
                <a:moveTo>
                  <a:pt x="0" y="0"/>
                </a:moveTo>
                <a:lnTo>
                  <a:pt x="19" y="132"/>
                </a:lnTo>
                <a:lnTo>
                  <a:pt x="38" y="40"/>
                </a:lnTo>
                <a:lnTo>
                  <a:pt x="57" y="124"/>
                </a:lnTo>
                <a:lnTo>
                  <a:pt x="76" y="126"/>
                </a:lnTo>
                <a:lnTo>
                  <a:pt x="94" y="119"/>
                </a:lnTo>
                <a:lnTo>
                  <a:pt x="113" y="127"/>
                </a:lnTo>
                <a:lnTo>
                  <a:pt x="132" y="137"/>
                </a:lnTo>
                <a:lnTo>
                  <a:pt x="151" y="110"/>
                </a:lnTo>
                <a:lnTo>
                  <a:pt x="170" y="67"/>
                </a:lnTo>
              </a:path>
            </a:pathLst>
          </a:custGeom>
          <a:noFill/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Freeform 1048"/>
          <p:cNvSpPr/>
          <p:nvPr/>
        </p:nvSpPr>
        <p:spPr>
          <a:xfrm>
            <a:off x="2973240" y="4116240"/>
            <a:ext cx="2671920" cy="487440"/>
          </a:xfrm>
          <a:custGeom>
            <a:avLst/>
            <a:gdLst/>
            <a:ahLst/>
            <a:rect l="l" t="t" r="r" b="b"/>
            <a:pathLst>
              <a:path w="170" h="31">
                <a:moveTo>
                  <a:pt x="0" y="20"/>
                </a:moveTo>
                <a:lnTo>
                  <a:pt x="19" y="25"/>
                </a:lnTo>
                <a:lnTo>
                  <a:pt x="38" y="0"/>
                </a:lnTo>
                <a:lnTo>
                  <a:pt x="57" y="29"/>
                </a:lnTo>
                <a:lnTo>
                  <a:pt x="76" y="25"/>
                </a:lnTo>
                <a:lnTo>
                  <a:pt x="94" y="26"/>
                </a:lnTo>
                <a:lnTo>
                  <a:pt x="113" y="23"/>
                </a:lnTo>
                <a:lnTo>
                  <a:pt x="132" y="31"/>
                </a:lnTo>
                <a:lnTo>
                  <a:pt x="151" y="18"/>
                </a:lnTo>
                <a:lnTo>
                  <a:pt x="170" y="20"/>
                </a:lnTo>
              </a:path>
            </a:pathLst>
          </a:custGeom>
          <a:noFill/>
          <a:ln w="158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2" name="Freeform 1049"/>
          <p:cNvSpPr/>
          <p:nvPr/>
        </p:nvSpPr>
        <p:spPr>
          <a:xfrm>
            <a:off x="2973240" y="4430880"/>
            <a:ext cx="2671920" cy="330120"/>
          </a:xfrm>
          <a:custGeom>
            <a:avLst/>
            <a:gdLst/>
            <a:ahLst/>
            <a:rect l="l" t="t" r="r" b="b"/>
            <a:pathLst>
              <a:path w="170" h="21">
                <a:moveTo>
                  <a:pt x="0" y="17"/>
                </a:moveTo>
                <a:lnTo>
                  <a:pt x="19" y="15"/>
                </a:lnTo>
                <a:lnTo>
                  <a:pt x="38" y="0"/>
                </a:lnTo>
                <a:lnTo>
                  <a:pt x="57" y="19"/>
                </a:lnTo>
                <a:lnTo>
                  <a:pt x="76" y="21"/>
                </a:lnTo>
                <a:lnTo>
                  <a:pt x="94" y="16"/>
                </a:lnTo>
                <a:lnTo>
                  <a:pt x="113" y="13"/>
                </a:lnTo>
                <a:lnTo>
                  <a:pt x="132" y="21"/>
                </a:lnTo>
                <a:lnTo>
                  <a:pt x="151" y="14"/>
                </a:lnTo>
                <a:lnTo>
                  <a:pt x="170" y="14"/>
                </a:lnTo>
              </a:path>
            </a:pathLst>
          </a:custGeom>
          <a:noFill/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Rectangle 1050"/>
          <p:cNvSpPr/>
          <p:nvPr/>
        </p:nvSpPr>
        <p:spPr>
          <a:xfrm>
            <a:off x="2404440" y="1019160"/>
            <a:ext cx="444168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Estimating Accuracy - % 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Rectangle 1051"/>
          <p:cNvSpPr/>
          <p:nvPr/>
        </p:nvSpPr>
        <p:spPr>
          <a:xfrm>
            <a:off x="4183200" y="1397160"/>
            <a:ext cx="7459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5" name="Rectangle 1052"/>
          <p:cNvSpPr/>
          <p:nvPr/>
        </p:nvSpPr>
        <p:spPr>
          <a:xfrm>
            <a:off x="2422080" y="4775040"/>
            <a:ext cx="3740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Rectangle 1053"/>
          <p:cNvSpPr/>
          <p:nvPr/>
        </p:nvSpPr>
        <p:spPr>
          <a:xfrm>
            <a:off x="2704320" y="43354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Rectangle 1054"/>
          <p:cNvSpPr/>
          <p:nvPr/>
        </p:nvSpPr>
        <p:spPr>
          <a:xfrm>
            <a:off x="2485080" y="389556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8" name="Rectangle 1055"/>
          <p:cNvSpPr/>
          <p:nvPr/>
        </p:nvSpPr>
        <p:spPr>
          <a:xfrm>
            <a:off x="2485080" y="34560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Rectangle 1056"/>
          <p:cNvSpPr/>
          <p:nvPr/>
        </p:nvSpPr>
        <p:spPr>
          <a:xfrm>
            <a:off x="2485080" y="300024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Rectangle 1057"/>
          <p:cNvSpPr/>
          <p:nvPr/>
        </p:nvSpPr>
        <p:spPr>
          <a:xfrm>
            <a:off x="2485080" y="25606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Rectangle 1058"/>
          <p:cNvSpPr/>
          <p:nvPr/>
        </p:nvSpPr>
        <p:spPr>
          <a:xfrm>
            <a:off x="2485080" y="211932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Rectangle 1059"/>
          <p:cNvSpPr/>
          <p:nvPr/>
        </p:nvSpPr>
        <p:spPr>
          <a:xfrm>
            <a:off x="29250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Rectangle 1060"/>
          <p:cNvSpPr/>
          <p:nvPr/>
        </p:nvSpPr>
        <p:spPr>
          <a:xfrm>
            <a:off x="32234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4" name="Rectangle 1061"/>
          <p:cNvSpPr/>
          <p:nvPr/>
        </p:nvSpPr>
        <p:spPr>
          <a:xfrm>
            <a:off x="35218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Rectangle 1062"/>
          <p:cNvSpPr/>
          <p:nvPr/>
        </p:nvSpPr>
        <p:spPr>
          <a:xfrm>
            <a:off x="382032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6" name="Rectangle 1063"/>
          <p:cNvSpPr/>
          <p:nvPr/>
        </p:nvSpPr>
        <p:spPr>
          <a:xfrm>
            <a:off x="41187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7" name="Rectangle 1064"/>
          <p:cNvSpPr/>
          <p:nvPr/>
        </p:nvSpPr>
        <p:spPr>
          <a:xfrm>
            <a:off x="44031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8" name="Rectangle 1065"/>
          <p:cNvSpPr/>
          <p:nvPr/>
        </p:nvSpPr>
        <p:spPr>
          <a:xfrm>
            <a:off x="47016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9" name="Rectangle 1066"/>
          <p:cNvSpPr/>
          <p:nvPr/>
        </p:nvSpPr>
        <p:spPr>
          <a:xfrm>
            <a:off x="50000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0" name="Rectangle 1067"/>
          <p:cNvSpPr/>
          <p:nvPr/>
        </p:nvSpPr>
        <p:spPr>
          <a:xfrm>
            <a:off x="52984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1" name="Rectangle 1068"/>
          <p:cNvSpPr/>
          <p:nvPr/>
        </p:nvSpPr>
        <p:spPr>
          <a:xfrm>
            <a:off x="5596920" y="5075280"/>
            <a:ext cx="204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2" name="Rectangle 1070"/>
          <p:cNvSpPr/>
          <p:nvPr/>
        </p:nvSpPr>
        <p:spPr>
          <a:xfrm>
            <a:off x="3286440" y="5467320"/>
            <a:ext cx="20779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3" name="Rectangle 1071"/>
          <p:cNvSpPr/>
          <p:nvPr/>
        </p:nvSpPr>
        <p:spPr>
          <a:xfrm rot="16200000">
            <a:off x="1103400" y="3429720"/>
            <a:ext cx="20491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Estimate Erro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4" name="Rectangle 1072"/>
          <p:cNvSpPr/>
          <p:nvPr/>
        </p:nvSpPr>
        <p:spPr>
          <a:xfrm>
            <a:off x="5959440" y="3078000"/>
            <a:ext cx="1351080" cy="10065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5" name="Line 1073"/>
          <p:cNvSpPr/>
          <p:nvPr/>
        </p:nvSpPr>
        <p:spPr>
          <a:xfrm>
            <a:off x="6037200" y="3267000"/>
            <a:ext cx="628560" cy="1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6" name="Rectangle 1074"/>
          <p:cNvSpPr/>
          <p:nvPr/>
        </p:nvSpPr>
        <p:spPr>
          <a:xfrm>
            <a:off x="6713640" y="3125880"/>
            <a:ext cx="372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7" name="Line 1075"/>
          <p:cNvSpPr/>
          <p:nvPr/>
        </p:nvSpPr>
        <p:spPr>
          <a:xfrm>
            <a:off x="6037200" y="3597120"/>
            <a:ext cx="628560" cy="18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8" name="Rectangle 1076"/>
          <p:cNvSpPr/>
          <p:nvPr/>
        </p:nvSpPr>
        <p:spPr>
          <a:xfrm>
            <a:off x="6713640" y="3456000"/>
            <a:ext cx="44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9" name="Line 1077"/>
          <p:cNvSpPr/>
          <p:nvPr/>
        </p:nvSpPr>
        <p:spPr>
          <a:xfrm>
            <a:off x="6037200" y="3927600"/>
            <a:ext cx="62856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0" name="Rectangle 1078"/>
          <p:cNvSpPr/>
          <p:nvPr/>
        </p:nvSpPr>
        <p:spPr>
          <a:xfrm>
            <a:off x="6713640" y="3786120"/>
            <a:ext cx="33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1" name="Rectangle 1079"/>
          <p:cNvSpPr/>
          <p:nvPr/>
        </p:nvSpPr>
        <p:spPr>
          <a:xfrm>
            <a:off x="1684440" y="752400"/>
            <a:ext cx="5767200" cy="534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8-09-25T14:00:24Z</cp:lastPrinted>
  <dcterms:modified xsi:type="dcterms:W3CDTF">2018-09-06T00:16:41Z</dcterms:modified>
  <cp:revision>93</cp:revision>
  <dc:subject/>
  <dc:title>No Slide Title</dc:title>
</cp:coreProperties>
</file>